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160-5E36-434E-8754-6BFF10830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F36-A377-47DE-B0C2-0E4EEE569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C68-AF75-4BA4-8E19-4126E581E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F21F-51B8-4012-AE4C-1CCBB22B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190-660C-452D-A898-306E05DF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9A6-D97B-4808-A0F6-BE8E4D16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3A934D-963D-40FD-A372-D86E9C46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6C334-A242-48F5-89CD-4F555D72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7E8C5-3B0E-43BE-84D6-FB5B378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A12A7-A944-4F96-8790-6C7F696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110A1-F744-43FB-9895-C9747BB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FF5F0-CAA0-4A2D-98FE-C701746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DA73D-E3DF-4F62-BD9A-7BBB3643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8FB6C-126E-453C-B2B7-F4E750E4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372CAB-00C6-4304-ACCB-7D78B8C1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A1C1F-4E48-425D-A2E5-A15828F2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6B1-F3F8-4C5F-8E2F-BAD00DE9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06EE2E-1F60-4D94-AECD-00A15AF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E10B9-AF7B-41FA-BAB2-70F4EDF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25692-F125-48A6-B40F-0A54FF4E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BDEE9-A15D-427C-9797-62EDEFA8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CD31B5-A7E6-4D1A-85B1-D49E59C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A71B41-9C8C-4A04-89AD-FE9E61C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EFABC-9EEA-4735-B440-4C19FBE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295076-5269-4E2B-A0CC-F728A44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AF282E-8BD1-4012-9869-AD9C054D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3413D7-DA95-412F-B26F-CC2971BF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260-7E5C-4DB4-9359-C23C04DE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15FBE-2316-471A-BE64-C3A5ECAF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74822-2558-478B-A15C-337FE809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BDE22-EDE6-4DDD-95F9-3256A651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E67CD-8D17-483F-8C32-4860481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E179-F09F-484A-99A5-8DA3F452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65BFB-10D4-4AF0-BEEF-823639BB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7B19-894A-4A69-88AA-1AFC4A38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129F-8329-42A7-8981-1C0D8270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856B1-F6EC-4D2C-9101-E803F08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EAECA-0915-47F6-9016-269ECDA5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E71-0234-485F-A356-07C7B252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21E44-ADD3-4DC1-BC43-4BF59F08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6DFC-84F0-4D5A-AE7D-49C14DA3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4387D-0628-401D-8196-DBA22B96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691FD-80FD-4B9D-A4F7-FFD8C09C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5BBFC-8041-401B-AAA4-C24D41C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D1A4E-376C-4BB3-AC48-38117D8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AA38E-7EFC-42FB-95EC-866311C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55692-F5EB-4C51-9FB5-44BB0093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D86A4-EA37-4ECD-B38E-29286679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5BA87-68C4-44BA-A974-768819C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194-F8E6-4B83-9790-2C87FB59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5F719-0135-4BDB-B572-4DE4719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193EF-A525-4DC2-B0C5-3E0A14D9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5E813-A497-4351-9DE7-E4F485C8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B7AC1-7485-4BF8-B8B2-E3ADB19F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F7721-B3CF-44A0-A2DC-9D8DCD2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7D5-F0B8-45F3-857A-BE765B6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055C-DA95-4AF4-A94B-2998E69F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83E-4EAE-45DC-8F65-E7116764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3FA8-0D27-4056-A2FD-6ABBBDD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9AC-E62B-4E81-907D-7C8EA8EA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793-29FE-405A-ADE0-A33EB8CD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05A0-8546-4EFF-8E14-7E16691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5CAA-D4A6-43CE-A3D4-ADB3E1FF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138-DB4A-4CF1-910B-6B52D548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0C16-56A2-43C8-8989-4AEE984C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1C73-60DC-4CE7-ADEA-E8B3A2C5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98AB6-5A57-4714-AB39-66256446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B0674-101F-4E22-913A-4CEA3B92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A4598-C461-4FF9-BD68-4ED6DE1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809D9-CCD5-4679-9C9B-49892485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13C71-9D7F-4056-A290-18383B78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C0F-A815-4169-8FDB-382E5E41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255B9-62EA-4FBC-A33F-C47C23E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23FAD-B4CB-4876-B779-20237A64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A9ADB-1AB2-4D1B-91D5-B28A9BE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00325-6651-49D8-984F-2B1440FE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10A67-2375-4D88-84CB-F33A7E4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3086-F5FC-4B7E-87F4-48651B1D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6C17A-3D2D-4E90-8F28-9FE672FE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FFC7-261D-4992-BFE0-1B7EB515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8C80-1D8B-4611-9818-477DEE0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D753-D5A3-4999-AAC2-90BE2A29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136-4669-489A-90C1-B0240B4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C5CF6-80B8-4C47-ACE2-E5C1C44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4C27-7132-43E3-8474-61368C6F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78D2-AA6F-45BB-A392-6D2760F1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BBE2-8428-47B3-A586-649F24F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407F-5FDA-4982-8C67-ED5FA14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9BD3-BF8B-47FB-8631-495FDB7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6F2D-80DD-4024-9929-2B116ECE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1DE1-3BCA-49D9-A8C6-6CDDB26C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FA33-AB92-4432-BB23-B2930D10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5EDC-B702-4F28-94F7-307CFAB5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808-8135-46BF-AA7E-2927AA06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D986-C253-4347-BB60-CBB74039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A79CB-AF8B-448A-BCD8-4956BC8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04D3-0A86-4940-BA74-35DE960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E3644-51FF-4210-9680-4929D3A6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0D59-69A4-428A-8D1A-DEF7F92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4EC5-54C5-4476-BF95-4C60EA2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37DF9-001B-4431-9B43-DE9B927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50A1-A608-4575-8260-D1EB326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67A07-4979-48FD-BFDD-DBEE64F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5B7CF-0BC1-4C00-8506-D849922C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73E-CE8C-4955-9383-063B781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C1F5-A345-4DE3-87CE-9B26D73B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2150-2CC6-4E2C-B13D-FAA971C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EA510-60A7-4C3A-8894-504F8F0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4A74-C5FB-4A62-954B-DB45F5EF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2052-BA77-4B16-B9C4-F76B1485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97DE-5E3E-4E22-8FCD-810852E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1BA7-2D99-4997-A1AE-E65203CA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0779-D3B2-42D1-B359-A538871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90EED-554A-487C-A74F-340F7BAA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38D38-64ED-4C99-A549-952E1E9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74F-B2F3-4791-B6AE-877FA9DC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ADFF9-B859-41FC-93D6-7958D639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E862-6B2A-4D46-AFD2-690AB0F4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29B36-662B-4172-882C-02827BBA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E09EB-F167-4925-9A5C-DE4EF6A3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14939-ECEE-4EA9-9135-E7C90A05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BCC3A-5746-4DBF-A392-80E6F01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3BCE9-2587-4D96-ABBB-6FF03EE7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79F6E-1FBE-4643-A21C-1B4BBFB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CB8E0-DA68-4602-AC87-B1DF77D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BEB7C-150B-4858-81BC-620C3C5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0A4-232C-4795-AEA6-06454F3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BCD1D-D710-4DCF-B6A8-F08F933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33301-E3D2-47BD-8F1C-EA9F27D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F4998-93B9-4000-9CBE-3C6ED02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0A2EB-3595-4192-A274-CB007DF9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FBC7E-A976-4952-A8DD-D204B335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A110-F231-4C3D-B8B9-A0464097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E0AE-CC13-40CC-81C1-BC1E3CE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BD106-8071-47B0-823F-2448E18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81224-78D0-4CDA-A887-A3E52210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AC784-2EC0-44E3-9474-70E96E81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B64-32C7-4101-878D-8A64931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DE343-83F9-4745-8755-841BA16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1EF9C-3775-4EE9-BA49-1F0AF09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7F86-C038-4EE3-A809-D6D5162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EDBFD-274F-41D8-A922-A885539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5188-9A19-4781-8D76-0C6C913C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3C7E0-FB78-4B0B-93E0-177740E8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54669-CDF8-432E-AA43-5F16B411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7EDB39-7D78-4A9E-96B1-A0E2D9A4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C6336-16DE-419E-9380-EC290CC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7B31A3-666A-44C4-BD3C-C254AD91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1A2-F3C7-4418-98F6-498B898F87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EB54-E52C-4AFD-AE40-F28CC24505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15AA-6F50-4236-95A8-8AEF37B2EA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D67-6F28-46F8-AC31-7E1B7640D6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6542-CFF5-45F5-92E8-2361AFCFFD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5CE-EA52-4992-96BD-F46E2F43BF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EE45-1925-4B80-A732-C0791F9102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3526-CBFC-405B-B462-328AAF1587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CA5-E24B-4FCC-983C-285C6EF426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F811-2616-47E0-9518-14BB479E84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132D-29D9-4C3C-B2B5-011340ED2E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F193-DCDB-4C0F-B2DF-A7A1504D10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arn.genetics.utah.edu/content/begin/cells/scale/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multimedia.mcb.harvard.edu/anim_innerlife.html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5796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305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2 main types of cells? Which Domains do they consist of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ist 3 ways that eukaryotes differ from prokaryo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10"/>
          <p:cNvSpPr/>
          <p:nvPr/>
        </p:nvSpPr>
        <p:spPr>
          <a:xfrm>
            <a:off x="860400" y="160020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rang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838080" y="3276720"/>
            <a:ext cx="333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light microscopes can not magnify as well as electron micro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1" descr="06_02_CellSizeRange-L.jpg"/>
          <p:cNvPicPr/>
          <p:nvPr/>
        </p:nvPicPr>
        <p:blipFill>
          <a:blip r:embed="rId1"/>
          <a:stretch/>
        </p:blipFill>
        <p:spPr>
          <a:xfrm>
            <a:off x="430524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Light Microscopy (LM) vs. Electron Microscopy (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1" descr="06_03_Microscopy-L.jpg"/>
          <p:cNvPicPr/>
          <p:nvPr/>
        </p:nvPicPr>
        <p:blipFill>
          <a:blip r:embed="rId1"/>
          <a:stretch/>
        </p:blipFill>
        <p:spPr>
          <a:xfrm>
            <a:off x="647640" y="600120"/>
            <a:ext cx="788688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COMPARISONS OF SCOP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645920"/>
            <a:ext cx="404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ible light passes through speci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fracts light so specimen is magnifi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gnify up to 1000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men can be alive/mo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644720" y="1645920"/>
            <a:ext cx="404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es a beam of electrons through/onto speci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gnify up to 1,000,000 t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men non-living and in vacu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ck and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75200" y="1130760"/>
            <a:ext cx="400356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63080" y="1130760"/>
            <a:ext cx="40050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ELECTRON MICROSCOP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6840" y="1676520"/>
            <a:ext cx="4040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-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eates a flat image with extreme det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enhance contrast by staining atoms with heavy metal dy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876560" y="1676520"/>
            <a:ext cx="404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-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for detailed study of surface of speci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s great field of dep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75200" y="1207440"/>
            <a:ext cx="4003560" cy="3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Transmission (TE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63080" y="1207440"/>
            <a:ext cx="4005000" cy="3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Scanning (SEM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8" name="Picture 1" descr="06_03iMicroscopy-L.jpg"/>
          <p:cNvPicPr/>
          <p:nvPr/>
        </p:nvPicPr>
        <p:blipFill>
          <a:blip r:embed="rId1"/>
          <a:stretch/>
        </p:blipFill>
        <p:spPr>
          <a:xfrm>
            <a:off x="5697360" y="4251240"/>
            <a:ext cx="1846440" cy="2606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06_03jMicroscopy-L.jpg"/>
          <p:cNvPicPr/>
          <p:nvPr/>
        </p:nvPicPr>
        <p:blipFill>
          <a:blip r:embed="rId2"/>
          <a:stretch/>
        </p:blipFill>
        <p:spPr>
          <a:xfrm>
            <a:off x="1371600" y="4191120"/>
            <a:ext cx="2259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152280" y="-76320"/>
            <a:ext cx="5321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001"/>
                </a:solidFill>
                <a:latin typeface="Arial"/>
              </a:rPr>
              <a:t>Studying cell structure &amp;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80880" y="1523880"/>
            <a:ext cx="4724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514440" indent="-514440">
              <a:lnSpc>
                <a:spcPct val="100000"/>
              </a:lnSpc>
              <a:buClr>
                <a:srgbClr val="e75c01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75c01"/>
                </a:solidFill>
                <a:uFillTx/>
                <a:latin typeface="Arial"/>
              </a:rPr>
              <a:t>Cell fractionation</a:t>
            </a:r>
            <a:r>
              <a:rPr b="1" lang="en-US" sz="2800" spc="-1" strike="noStrike">
                <a:solidFill>
                  <a:srgbClr val="e75c0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- take apart cells, separate major orga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e75c01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75c01"/>
                </a:solidFill>
                <a:uFillTx/>
                <a:latin typeface="Arial"/>
              </a:rPr>
              <a:t>Ultracentrifu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- applies force 1 million times the force of gravity to separate further the cell organelles with the most dense at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" descr="06_04_CellFractionation-L.jpg"/>
          <p:cNvPicPr/>
          <p:nvPr/>
        </p:nvPicPr>
        <p:blipFill>
          <a:blip r:embed="rId1"/>
          <a:stretch/>
        </p:blipFill>
        <p:spPr>
          <a:xfrm>
            <a:off x="5570640" y="-7920"/>
            <a:ext cx="3649680" cy="68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2 TYPES OF CELL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75c01"/>
                </a:solidFill>
                <a:uFillTx/>
                <a:latin typeface="Century Schoolbook"/>
              </a:rPr>
              <a:t>Prokaryo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Domain Bacteria &amp; Archae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75c01"/>
                </a:solidFill>
                <a:uFillTx/>
                <a:latin typeface="Century Schoolbook"/>
              </a:rPr>
              <a:t>Eukaryo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(Domain Eukarya): Protists, Fungi, Plants, Animal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5" name="Picture 1" descr="06_05aProkaryoticCell-L.jpg"/>
          <p:cNvPicPr/>
          <p:nvPr/>
        </p:nvPicPr>
        <p:blipFill>
          <a:blip r:embed="rId1"/>
          <a:stretch/>
        </p:blipFill>
        <p:spPr>
          <a:xfrm>
            <a:off x="1219320" y="3276720"/>
            <a:ext cx="2324160" cy="34052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06_08baEukaryoticCell-L.jpg"/>
          <p:cNvPicPr/>
          <p:nvPr/>
        </p:nvPicPr>
        <p:blipFill>
          <a:blip r:embed="rId2"/>
          <a:stretch/>
        </p:blipFill>
        <p:spPr>
          <a:xfrm>
            <a:off x="4648320" y="3276720"/>
            <a:ext cx="3886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6"/>
          <p:cNvSpPr/>
          <p:nvPr/>
        </p:nvSpPr>
        <p:spPr>
          <a:xfrm>
            <a:off x="45720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001"/>
                </a:solidFill>
                <a:latin typeface="Century Schoolbook"/>
              </a:rPr>
              <a:t>A PROKARYOTIC CELL (BACTERIA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9" name="Picture 1" descr="06_05_ProkaryoticCell-L.jpg"/>
          <p:cNvPicPr/>
          <p:nvPr/>
        </p:nvPicPr>
        <p:blipFill>
          <a:blip r:embed="rId1"/>
          <a:stretch/>
        </p:blipFill>
        <p:spPr>
          <a:xfrm>
            <a:off x="457200" y="963720"/>
            <a:ext cx="8166240" cy="58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PROKARYOTE VS. </a:t>
            </a:r>
            <a:r>
              <a:rPr b="0" lang="en-US" sz="4400" spc="-1" strike="noStrike">
                <a:solidFill>
                  <a:srgbClr val="ff9933"/>
                </a:solidFill>
                <a:latin typeface="Century Schoolbook"/>
              </a:rPr>
              <a:t>EUKARYOT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0364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before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kernel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No nucleu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NA in a nucle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tos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No organelles other than ribosom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mall siz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rimitiv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.e. Bacteria &amp; Archaea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7960" y="1036440"/>
            <a:ext cx="42670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true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kernel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  <a:ea typeface="MS PMincho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s nucleus and nuclear envelop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toso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embrane-bound organelles with specialized structure/fun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uch larger in siz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ore complex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.e. plant/animal cel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5640" y="31240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ELL SIZE AND SCA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285640" y="4724280"/>
            <a:ext cx="670572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learn.genetics.utah.edu/content/begin/cells/scale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cale of the Univers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http://www.onemorelevel.com/game/scale_of_the_universe_20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04560" y="759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ells must be small to maintain a large </a:t>
            </a:r>
            <a:r>
              <a:rPr b="0" lang="en-US" sz="2800" spc="-1" strike="noStrike">
                <a:solidFill>
                  <a:srgbClr val="003399"/>
                </a:solidFill>
                <a:latin typeface="Century Schoolbook"/>
              </a:rPr>
              <a:t>surface area to volume rat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rge S.A. allow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rates of chemical exchange between cell and environ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6" name="Picture 1" descr="06_07SurfaceVolume-L.jpg"/>
          <p:cNvPicPr/>
          <p:nvPr/>
        </p:nvPicPr>
        <p:blipFill>
          <a:blip r:embed="rId1"/>
          <a:stretch/>
        </p:blipFill>
        <p:spPr>
          <a:xfrm>
            <a:off x="1955880" y="2130480"/>
            <a:ext cx="528300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is the size of a cell related to its functi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 5 organelles or cell structures and their func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URFACE AREA EXAMPLE (</a:t>
            </a: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ANIMAL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)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6840" y="4651200"/>
            <a:ext cx="80010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Small Intestin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highly folded surfac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increase absorption of nutri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entury Schoolbook"/>
              </a:rPr>
              <a:t>Vill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finger-like projections on SI wa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entury Schoolbook"/>
              </a:rPr>
              <a:t>Microvill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projections on each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9" name="Picture 4" descr="41_13_NutrientAbsorption-L.jpg"/>
          <p:cNvPicPr/>
          <p:nvPr/>
        </p:nvPicPr>
        <p:blipFill>
          <a:blip r:embed="rId1"/>
          <a:stretch/>
        </p:blipFill>
        <p:spPr>
          <a:xfrm>
            <a:off x="609480" y="755640"/>
            <a:ext cx="7848720" cy="3740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entury Schoolbook"/>
              </a:rPr>
              <a:t>FOLDS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Century Schoolbook"/>
              </a:rPr>
              <a:t> VILLI </a:t>
            </a:r>
            <a:r>
              <a:rPr b="1" lang="en-US" sz="32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70c0"/>
                </a:solidFill>
                <a:latin typeface="Century Schoolbook"/>
              </a:rPr>
              <a:t> MICROVILL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51" name="Picture 4" descr="41_13bNutrientAbsorption-L.jpg"/>
          <p:cNvPicPr/>
          <p:nvPr/>
        </p:nvPicPr>
        <p:blipFill>
          <a:blip r:embed="rId1"/>
          <a:stretch/>
        </p:blipFill>
        <p:spPr>
          <a:xfrm>
            <a:off x="0" y="1600200"/>
            <a:ext cx="6222960" cy="48499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41_14_FatAbsorption-L.jpg"/>
          <p:cNvPicPr/>
          <p:nvPr/>
        </p:nvPicPr>
        <p:blipFill>
          <a:blip r:embed="rId2"/>
          <a:stretch/>
        </p:blipFill>
        <p:spPr>
          <a:xfrm>
            <a:off x="6303960" y="274680"/>
            <a:ext cx="28400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URFACE AREA EXAMPLE (</a:t>
            </a:r>
            <a:r>
              <a:rPr b="0" lang="en-US" sz="3200" spc="-1" strike="noStrike">
                <a:solidFill>
                  <a:srgbClr val="008000"/>
                </a:solidFill>
                <a:latin typeface="Century Schoolbook"/>
              </a:rPr>
              <a:t>PLANT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)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6840" y="7617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Century Schoolbook"/>
              </a:rPr>
              <a:t>Root hair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xtensions of root epidermal cells; increase surface area for absorbing water and mineral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5" name="Picture 6" descr="35_03RootHairs-L.jpg"/>
          <p:cNvPicPr/>
          <p:nvPr/>
        </p:nvPicPr>
        <p:blipFill>
          <a:blip r:embed="rId1"/>
          <a:stretch/>
        </p:blipFill>
        <p:spPr>
          <a:xfrm>
            <a:off x="4724280" y="2362320"/>
            <a:ext cx="2853000" cy="39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6" name="Picture 8" descr="35_02FloweringPlant-U.jpg"/>
          <p:cNvPicPr/>
          <p:nvPr/>
        </p:nvPicPr>
        <p:blipFill>
          <a:blip r:embed="rId2"/>
          <a:stretch/>
        </p:blipFill>
        <p:spPr>
          <a:xfrm>
            <a:off x="1371600" y="2367000"/>
            <a:ext cx="2590920" cy="39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NUCLEU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ntrol center of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rounded by double membrane (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nuclear envelop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inuous with the rough 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ar po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ntrol what enters/leaves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mplex of DNA + proteins; makes up chrom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gion where ribosomal subunits are form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9" name="Picture 4" descr="06_09cNucleus-L.jpg"/>
          <p:cNvPicPr/>
          <p:nvPr/>
        </p:nvPicPr>
        <p:blipFill>
          <a:blip r:embed="rId1"/>
          <a:stretch/>
        </p:blipFill>
        <p:spPr>
          <a:xfrm>
            <a:off x="4856040" y="4724280"/>
            <a:ext cx="3764160" cy="2133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06_09bNucleus-L.jpg"/>
          <p:cNvPicPr/>
          <p:nvPr/>
        </p:nvPicPr>
        <p:blipFill>
          <a:blip r:embed="rId2"/>
          <a:stretch/>
        </p:blipFill>
        <p:spPr>
          <a:xfrm>
            <a:off x="2209680" y="4629240"/>
            <a:ext cx="2514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NUCLEU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control center of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rounded by double membrane (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nuclear envelop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inuous with the rough 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ar po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ntrol what enters/leaves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omplex of DNA + proteins; makes up chrom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gion where ribosomal subunits are form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3" name="Picture 4" descr="06_09cNucleus-L.jpg"/>
          <p:cNvPicPr/>
          <p:nvPr/>
        </p:nvPicPr>
        <p:blipFill>
          <a:blip r:embed="rId1"/>
          <a:stretch/>
        </p:blipFill>
        <p:spPr>
          <a:xfrm>
            <a:off x="4724280" y="4648320"/>
            <a:ext cx="3525840" cy="19987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06_09aNucleus-L.jpg"/>
          <p:cNvPicPr/>
          <p:nvPr/>
        </p:nvPicPr>
        <p:blipFill>
          <a:blip r:embed="rId2"/>
          <a:stretch/>
        </p:blipFill>
        <p:spPr>
          <a:xfrm>
            <a:off x="298440" y="136440"/>
            <a:ext cx="85471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RIBO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685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rotein 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sed of rRNA +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rge subunit + small sub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Free rib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loat in cytosol, produce proteins used withi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ound rib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attached to ER, make proteins for export from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7" name="Picture 3" descr="06_10_Ribosomes-L.jpg"/>
          <p:cNvPicPr/>
          <p:nvPr/>
        </p:nvPicPr>
        <p:blipFill>
          <a:blip r:embed="rId1"/>
          <a:stretch/>
        </p:blipFill>
        <p:spPr>
          <a:xfrm>
            <a:off x="2209680" y="4054320"/>
            <a:ext cx="48769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39d"/>
                </a:solidFill>
                <a:uFillTx/>
                <a:latin typeface="Century Schoolbook"/>
              </a:rPr>
              <a:t>ENDOMEMBRANE SYSTEM</a:t>
            </a:r>
            <a:r>
              <a:rPr b="1" lang="en-US" sz="3200" spc="-1" strike="noStrike">
                <a:solidFill>
                  <a:srgbClr val="fff39d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39d"/>
                </a:solidFill>
                <a:latin typeface="Century Schoolbook"/>
              </a:rPr>
              <a:t>Regulates protein traffic &amp; performs metabolic functions   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670" name="Picture 1" descr="06_15EndomembraneSystem_3-L.jpg"/>
          <p:cNvPicPr/>
          <p:nvPr/>
        </p:nvPicPr>
        <p:blipFill>
          <a:blip r:embed="rId1"/>
          <a:stretch/>
        </p:blipFill>
        <p:spPr>
          <a:xfrm>
            <a:off x="2362320" y="555480"/>
            <a:ext cx="54100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75c01"/>
                </a:solidFill>
                <a:uFillTx/>
                <a:latin typeface="Century Schoolbook"/>
              </a:rPr>
              <a:t>ENDOPLASMIC RETICULUM (ER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6840" y="1523880"/>
            <a:ext cx="74674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twork of membranes and sa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Rough 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ibosomes on surf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2888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ackage proteins for secretion, send transport vesicles to Golgi, make replacement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601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Smooth 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no ribosomes on surf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2888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ynthesize lipids, metabolize carbs, detox drugs &amp; poisons, stor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ENDOPLASMIC RETICULUM (ER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74" name="Content Placeholder 3" descr="06_11_EndoplsmcReticulum-L.jpg"/>
          <p:cNvPicPr/>
          <p:nvPr/>
        </p:nvPicPr>
        <p:blipFill>
          <a:blip r:embed="rId1"/>
          <a:stretch/>
        </p:blipFill>
        <p:spPr>
          <a:xfrm>
            <a:off x="1841400" y="1066680"/>
            <a:ext cx="494028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GOLGI APPARATU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4560" y="762120"/>
            <a:ext cx="838188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ynthesis &amp; packaging of materials (small molecules) for transport (in vesicles); produce lys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s of flattened membrane sacs (cisterna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Cis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fa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ceives vesic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5c01"/>
                </a:solidFill>
                <a:latin typeface="Century Schoolbook"/>
              </a:rPr>
              <a:t>Trans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fa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hips vesic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7" name="Picture 3" descr="06_12_GolgiApparatus-L.jpg"/>
          <p:cNvPicPr/>
          <p:nvPr/>
        </p:nvPicPr>
        <p:blipFill>
          <a:blip r:embed="rId1"/>
          <a:stretch/>
        </p:blipFill>
        <p:spPr>
          <a:xfrm>
            <a:off x="673200" y="3129120"/>
            <a:ext cx="7632720" cy="3728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ARM-UP ACTIVITY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ck up handout on back count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is handout for your warm-up activity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LYSO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6840" y="1066320"/>
            <a:ext cx="83818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ntracellular digestion; recycle cell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 materials; programmed cell death (apoptos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ydrolytic enzy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0" name="Picture 3" descr="06_13_Lysosomes-L.jpg"/>
          <p:cNvPicPr/>
          <p:nvPr/>
        </p:nvPicPr>
        <p:blipFill>
          <a:blip r:embed="rId1"/>
          <a:stretch/>
        </p:blipFill>
        <p:spPr>
          <a:xfrm>
            <a:off x="679320" y="2362320"/>
            <a:ext cx="790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324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VACUOL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6840" y="917640"/>
            <a:ext cx="83818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torage of materials (food, water, minerals, pigments, poison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mbrane-bound vesic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. food vacuoles, contractile vacuo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Plants: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entury Schoolbook"/>
              </a:rPr>
              <a:t>large central vacuole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 -- stores water, 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3" name="Picture 4" descr="06_14_PlantCellVacuole-L.jpg"/>
          <p:cNvPicPr/>
          <p:nvPr/>
        </p:nvPicPr>
        <p:blipFill>
          <a:blip r:embed="rId1"/>
          <a:stretch/>
        </p:blipFill>
        <p:spPr>
          <a:xfrm>
            <a:off x="1981080" y="3276720"/>
            <a:ext cx="4419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3" descr="06_15EndomembraneSystem_1-L.jpg"/>
          <p:cNvPicPr/>
          <p:nvPr/>
        </p:nvPicPr>
        <p:blipFill>
          <a:blip r:embed="rId1"/>
          <a:stretch/>
        </p:blipFill>
        <p:spPr>
          <a:xfrm>
            <a:off x="298440" y="496800"/>
            <a:ext cx="854712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" descr="06_15EndomembraneSystem_2-L.jpg"/>
          <p:cNvPicPr/>
          <p:nvPr/>
        </p:nvPicPr>
        <p:blipFill>
          <a:blip r:embed="rId1"/>
          <a:stretch/>
        </p:blipFill>
        <p:spPr>
          <a:xfrm>
            <a:off x="298440" y="496800"/>
            <a:ext cx="854712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1" descr="06_15EndomembraneSystem_3-L.jpg"/>
          <p:cNvPicPr/>
          <p:nvPr/>
        </p:nvPicPr>
        <p:blipFill>
          <a:blip r:embed="rId1"/>
          <a:stretch/>
        </p:blipFill>
        <p:spPr>
          <a:xfrm>
            <a:off x="298440" y="496800"/>
            <a:ext cx="854712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5"/>
          <p:cNvSpPr/>
          <p:nvPr/>
        </p:nvSpPr>
        <p:spPr>
          <a:xfrm>
            <a:off x="380880" y="533520"/>
            <a:ext cx="8077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Parts of plant &amp; animal cell p 108-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MITOCHONDRI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914400"/>
            <a:ext cx="8229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ite of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 membrane: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inner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Crista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olds of inner membrane; contains enzymes for ATP production; increased surface area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TP m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atri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fluid-filled inner compar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2" name="Picture 5" descr="06_17_Mitochondrion-L.jpg"/>
          <p:cNvPicPr/>
          <p:nvPr/>
        </p:nvPicPr>
        <p:blipFill>
          <a:blip r:embed="rId1"/>
          <a:stretch/>
        </p:blipFill>
        <p:spPr>
          <a:xfrm>
            <a:off x="298440" y="3333600"/>
            <a:ext cx="8547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Schoolbook"/>
              </a:rPr>
              <a:t>CHLOROPLAS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6840" y="1066320"/>
            <a:ext cx="74674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ite of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ylakoid disks in stacks (grana); stroma (flui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ins 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chlorophyl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pigments) for capturing sunlight ener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5" name="Picture 5" descr="06_18_Chloroplast-L.jpg"/>
          <p:cNvPicPr/>
          <p:nvPr/>
        </p:nvPicPr>
        <p:blipFill>
          <a:blip r:embed="rId1"/>
          <a:stretch/>
        </p:blipFill>
        <p:spPr>
          <a:xfrm>
            <a:off x="298440" y="3618000"/>
            <a:ext cx="85471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LLUSTRATIVE EXAMPL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ations within molecules provide a wider range of functio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lorophy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905120"/>
          <a:ext cx="8229600" cy="441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imal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nt C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TextBox 6"/>
          <p:cNvSpPr/>
          <p:nvPr/>
        </p:nvSpPr>
        <p:spPr>
          <a:xfrm>
            <a:off x="533520" y="1143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Animal vs. 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5029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entury Schoolbook"/>
              </a:rPr>
              <a:t>ENDOSYMBIONT THEOR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419360" y="1526760"/>
            <a:ext cx="472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tochondria &amp; chloroplasts share similar orig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karyotic cells engulfed by ancestors of eukaryotic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-membrane struc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e own ribosomes &amp;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produce independently withi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0" name="Picture 3" descr="06_16EndosymbiontTheory-L.jpg"/>
          <p:cNvPicPr/>
          <p:nvPr/>
        </p:nvPicPr>
        <p:blipFill>
          <a:blip r:embed="rId1"/>
          <a:stretch/>
        </p:blipFill>
        <p:spPr>
          <a:xfrm>
            <a:off x="76320" y="1450800"/>
            <a:ext cx="4267080" cy="4192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5c01"/>
                </a:solidFill>
                <a:latin typeface="Century Schoolbook"/>
              </a:rPr>
              <a:t>PEROXI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066320"/>
            <a:ext cx="74674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break down fatty acids; detox alcoh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olves production of hydrogen peroxide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3" name="Picture 4" descr="06_19Peroxisome-L.jpg"/>
          <p:cNvPicPr/>
          <p:nvPr/>
        </p:nvPicPr>
        <p:blipFill>
          <a:blip r:embed="rId1"/>
          <a:stretch/>
        </p:blipFill>
        <p:spPr>
          <a:xfrm>
            <a:off x="1550880" y="2133720"/>
            <a:ext cx="553572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Century Schoolbook"/>
              </a:rPr>
              <a:t>CYTOSKELET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: NETWORK OF PROTEIN FIB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33160" y="990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upport, motility, regulate biochemical activ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6" name="Picture 11" descr="06_20Cytoskeleton-L.jpg"/>
          <p:cNvPicPr/>
          <p:nvPr/>
        </p:nvPicPr>
        <p:blipFill>
          <a:blip r:embed="rId1"/>
          <a:stretch/>
        </p:blipFill>
        <p:spPr>
          <a:xfrm>
            <a:off x="1295280" y="1981080"/>
            <a:ext cx="64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304920" y="1371600"/>
          <a:ext cx="8610480" cy="8398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3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rmediate 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</a:tr>
            </a:tbl>
          </a:graphicData>
        </a:graphic>
      </p:graphicFrame>
      <p:sp>
        <p:nvSpPr>
          <p:cNvPr id="708" name="TextBox 8"/>
          <p:cNvSpPr/>
          <p:nvPr/>
        </p:nvSpPr>
        <p:spPr>
          <a:xfrm>
            <a:off x="304920" y="236052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= tub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/suppor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for organell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spindle for mitosis/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of cilia/flag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Box 9"/>
          <p:cNvSpPr/>
          <p:nvPr/>
        </p:nvSpPr>
        <p:spPr>
          <a:xfrm>
            <a:off x="3200400" y="2360520"/>
            <a:ext cx="281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= a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st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ell on smaller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. ameboid movement, cytoplasmic streaming, muscle cell con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Box 10"/>
          <p:cNvSpPr/>
          <p:nvPr/>
        </p:nvSpPr>
        <p:spPr>
          <a:xfrm>
            <a:off x="6095880" y="2360520"/>
            <a:ext cx="281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f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shape of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position of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3d01"/>
                </a:solidFill>
                <a:latin typeface="Century Schoolbook"/>
              </a:rPr>
              <a:t>3 TYPES OF CYTOSKELETON FIBER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304920" y="1371600"/>
          <a:ext cx="8610480" cy="8398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3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rmediate Fila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</a:tr>
            </a:tbl>
          </a:graphicData>
        </a:graphic>
      </p:graphicFrame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3d01"/>
                </a:solidFill>
                <a:latin typeface="Century Schoolbook"/>
              </a:rPr>
              <a:t>3 TYPES OF CYTOSKELETON FIBER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14" name="Picture 6" descr="06_T01aaCytoskeletonStruc-L.jpg"/>
          <p:cNvPicPr/>
          <p:nvPr/>
        </p:nvPicPr>
        <p:blipFill>
          <a:blip r:embed="rId1"/>
          <a:stretch/>
        </p:blipFill>
        <p:spPr>
          <a:xfrm>
            <a:off x="304920" y="2379600"/>
            <a:ext cx="2895480" cy="2799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1" descr="06_T01bbCytoskeletonStruc-L.jpg"/>
          <p:cNvPicPr/>
          <p:nvPr/>
        </p:nvPicPr>
        <p:blipFill>
          <a:blip r:embed="rId2"/>
          <a:stretch/>
        </p:blipFill>
        <p:spPr>
          <a:xfrm>
            <a:off x="3178080" y="2362320"/>
            <a:ext cx="2917800" cy="28191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3" descr="06_T01ccCytoskeletonStruc-L.jpg"/>
          <p:cNvPicPr/>
          <p:nvPr/>
        </p:nvPicPr>
        <p:blipFill>
          <a:blip r:embed="rId3"/>
          <a:stretch/>
        </p:blipFill>
        <p:spPr>
          <a:xfrm>
            <a:off x="6019920" y="2362320"/>
            <a:ext cx="289548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06_T01_CytoskeletonStruc-L.jpg"/>
          <p:cNvPicPr/>
          <p:nvPr/>
        </p:nvPicPr>
        <p:blipFill>
          <a:blip r:embed="rId1"/>
          <a:stretch/>
        </p:blipFill>
        <p:spPr>
          <a:xfrm>
            <a:off x="762120" y="76320"/>
            <a:ext cx="7489800" cy="67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6840" y="304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75c01"/>
                </a:solidFill>
                <a:uFillTx/>
                <a:latin typeface="Century Schoolbook"/>
              </a:rPr>
              <a:t>Centr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region from which microtubules gr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so called </a:t>
            </a:r>
            <a:r>
              <a:rPr b="0" i="1" lang="en-US" sz="2400" spc="-1" strike="noStrike">
                <a:solidFill>
                  <a:srgbClr val="e75c01"/>
                </a:solidFill>
                <a:latin typeface="Century Schoolbook"/>
              </a:rPr>
              <a:t>microtubule organizing cen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l cells contai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centrio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9" name="Picture 4" descr="06_22_CentrosomeStructure-L.jpg"/>
          <p:cNvPicPr/>
          <p:nvPr/>
        </p:nvPicPr>
        <p:blipFill>
          <a:blip r:embed="rId1"/>
          <a:stretch/>
        </p:blipFill>
        <p:spPr>
          <a:xfrm>
            <a:off x="1495440" y="1752480"/>
            <a:ext cx="56674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CILIA &amp; FLAGELL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long and few; propel through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hort and numerous; locomotion or move flu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e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9+2 pattern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 microtub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2" name="Picture 5" descr="06_24_FlagellCiliumStruc-L.jpg"/>
          <p:cNvPicPr/>
          <p:nvPr/>
        </p:nvPicPr>
        <p:blipFill>
          <a:blip r:embed="rId1"/>
          <a:stretch/>
        </p:blipFill>
        <p:spPr>
          <a:xfrm>
            <a:off x="1573200" y="2505240"/>
            <a:ext cx="5742000" cy="43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EXTRACELLULAR MATRIX (ECM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tside plasma membra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sed of glycoproteins (ex. collag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trengthens tissues and transmits external signals to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5" name="Picture 4" descr="06_30_ExtracellularMatrx-L.jpg"/>
          <p:cNvPicPr/>
          <p:nvPr/>
        </p:nvPicPr>
        <p:blipFill>
          <a:blip r:embed="rId1"/>
          <a:stretch/>
        </p:blipFill>
        <p:spPr>
          <a:xfrm>
            <a:off x="298440" y="2901960"/>
            <a:ext cx="8547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INTERCELLULAR JUNCTIONS (ANIMAL CELL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7521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ight juncti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2 cells are fused to form watertight s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Desmosom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vets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at fasten cells into strong she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Gap juncti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channels through which ions, sugar, small molecules can p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8" name="Picture 4" descr="06_32_IntercellularJunct-L.jpg"/>
          <p:cNvPicPr/>
          <p:nvPr/>
        </p:nvPicPr>
        <p:blipFill>
          <a:blip r:embed="rId1"/>
          <a:stretch/>
        </p:blipFill>
        <p:spPr>
          <a:xfrm>
            <a:off x="4191120" y="1119240"/>
            <a:ext cx="47498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the structure &amp; function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icrotubu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icrofila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mediate fila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06_28_PlantCellWalls-L.jpg"/>
          <p:cNvPicPr/>
          <p:nvPr/>
        </p:nvPicPr>
        <p:blipFill>
          <a:blip r:embed="rId1"/>
          <a:stretch/>
        </p:blipFill>
        <p:spPr>
          <a:xfrm>
            <a:off x="3886200" y="1305000"/>
            <a:ext cx="4737240" cy="50958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Schoolbook"/>
              </a:rPr>
              <a:t>PLANT CELL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Century Schoolbook"/>
              </a:rPr>
              <a:t>Cell wall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rotect plant, maintain 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sed of </a:t>
            </a:r>
            <a:r>
              <a:rPr b="1" lang="en-US" sz="2400" spc="-1" strike="noStrike">
                <a:solidFill>
                  <a:srgbClr val="008000"/>
                </a:solidFill>
                <a:latin typeface="Century Schoolbook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Century Schoolbook"/>
              </a:rPr>
              <a:t>Plasmodesmata</a:t>
            </a:r>
            <a:r>
              <a:rPr b="0" lang="en-US" sz="2400" spc="-1" strike="noStrike">
                <a:solidFill>
                  <a:srgbClr val="008000"/>
                </a:solidFill>
                <a:latin typeface="Century Schoolboo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nels between cells to allow passage of molecu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762120" y="985680"/>
          <a:ext cx="7543800" cy="488952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81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lant Cells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nimals Cells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11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tral vacu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ysos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11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loropla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trio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9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ll wall of cellul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lagella, ci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smodesm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mosomes, tight and gap j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racellular matrix (E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HARVARD CELL VIDEO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361960" y="4952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multimedia.mcb.harvard.edu/anim_innerlife.htm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6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is the function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lasmodesma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ap jun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ight jun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smoso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CHAPTER 6</a:t>
            </a:r>
            <a:br>
              <a:rPr sz="3000"/>
            </a:b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Century Schoolbook"/>
              </a:rPr>
              <a:t>A Tour of the Cell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YOU MUST KN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628560"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ree differences between prokaryotic and eukaryotic cel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8560" indent="-628560"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tructure and function of organelles common to plant and animal cel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8560" indent="-628560"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tructure and function of organelles found only in plant cells or only in animal cel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47560" y="155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001"/>
                </a:solidFill>
                <a:latin typeface="Century Schoolbook"/>
              </a:rPr>
              <a:t>HOW WE STUDY CELL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Rectangle 27"/>
          <p:cNvSpPr/>
          <p:nvPr/>
        </p:nvSpPr>
        <p:spPr>
          <a:xfrm>
            <a:off x="380880" y="862200"/>
            <a:ext cx="8458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001"/>
                </a:solidFill>
                <a:latin typeface="Arial"/>
              </a:rPr>
              <a:t>Biologists use microscopes and the tools of biochemistry to study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1" descr="06_01NerveCellsInBrain-L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2:10:47Z</dcterms:created>
  <dc:creator>David title</dc:creator>
  <dc:description/>
  <dc:language>en-US</dc:language>
  <cp:lastModifiedBy>Chris Nancy Chou</cp:lastModifiedBy>
  <dcterms:modified xsi:type="dcterms:W3CDTF">2012-09-17T04:52:21Z</dcterms:modified>
  <cp:revision>123</cp:revision>
  <dc:subject/>
  <dc:title>Plants - Reproduction</dc:title>
</cp:coreProperties>
</file>